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911F-742B-4A9B-8E54-DA0F5731075D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5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1.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ormance Classes: Revision plus Changes since CIS/2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53400" y="2514600"/>
            <a:ext cx="226548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-C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58480" y="4191120"/>
            <a:ext cx="2264040" cy="64260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Arial"/>
              </a:rPr>
              <a:t>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07320" y="4191120"/>
            <a:ext cx="259308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n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98" idx="2"/>
            <a:endCxn id="99" idx="0"/>
          </p:cNvCxnSpPr>
          <p:nvPr/>
        </p:nvCxnSpPr>
        <p:spPr>
          <a:xfrm rot="5400000">
            <a:off x="2448720" y="3039840"/>
            <a:ext cx="978480" cy="129636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cxnSp>
        <p:nvCxnSpPr>
          <p:cNvPr id="102" name=""/>
          <p:cNvCxnSpPr>
            <a:stCxn id="98" idx="2"/>
            <a:endCxn id="100" idx="0"/>
          </p:cNvCxnSpPr>
          <p:nvPr/>
        </p:nvCxnSpPr>
        <p:spPr>
          <a:xfrm flipH="1" rot="16200000">
            <a:off x="4055400" y="2728800"/>
            <a:ext cx="978480" cy="191844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grpSp>
        <p:nvGrpSpPr>
          <p:cNvPr id="103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104" name=""/>
            <p:cNvCxnSpPr>
              <a:stCxn id="100" idx="3"/>
              <a:endCxn id="98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05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e as needed from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ple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by a list of BASE-CC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entity can be repeatedly included at multiple levels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nn diagram nes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Huge number of possible combinatio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Why so complex?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alid Subse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ompleted CC simply defines a subset of the LPM that is logically valid to instant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usefu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(that) meaning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is large and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many valid subsets are possib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verall scope of a particular translator corresponds to a particular CC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rrectly translat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data within that valid sub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entity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(non OPTIONAL)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y translator provide user control for exporting or importing lesser valid sco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are when scoping a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25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49453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28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95680" y="5705640"/>
            <a:ext cx="274320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96"/>
              <a:gd name="adj5" fmla="val -253282"/>
              <a:gd name="adj6" fmla="val -5172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pplication ful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19320" y="365760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40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763"/>
                <a:gd name="adj5" fmla="val 51569"/>
                <a:gd name="adj6" fmla="val -515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43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548640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1676520"/>
            <a:ext cx="266724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513"/>
              <a:gd name="adj5" fmla="val 451407"/>
              <a:gd name="adj6" fmla="val -2886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pplication only part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set CC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e fully populated with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55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50509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58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briefly revise the topic of Conformance Classes (C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some CC related changes since Workshop #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.e. from CIS/2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release to CIS/2 Publi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64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888"/>
                <a:gd name="adj5" fmla="val 49453"/>
                <a:gd name="adj6" fmla="val -52013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67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5791320" y="5791320"/>
            <a:ext cx="281916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45"/>
              <a:gd name="adj5" fmla="val -37870"/>
              <a:gd name="adj6" fmla="val -5168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eat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 data full populates CC scope of import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S dat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xceed CC scope of translato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77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5334120" y="551340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2041"/>
              <a:gd name="adj5" fmla="val -256805"/>
              <a:gd name="adj6" fmla="val -4659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full CC scope of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DEALL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logic able to import, in isolation, each within-scope completed BASE-CC!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im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and Impor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ss data CIS data ignor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pplication must be able to store and manipulate any such subs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89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5715000"/>
            <a:ext cx="26668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810"/>
              <a:gd name="adj5" fmla="val -356648"/>
              <a:gd name="adj6" fmla="val -30287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175248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5194"/>
              <a:gd name="adj5" fmla="val 393347"/>
              <a:gd name="adj6" fmla="val -61226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228600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Beta Documentat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a reference to an entity that is external to that BASE-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ise due to “dangling” multiple-choice references v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BSTRACT super-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ELECT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105520" y="3297240"/>
            <a:ext cx="3019320" cy="1270080"/>
            <a:chOff x="5105520" y="3297240"/>
            <a:chExt cx="3019320" cy="1270080"/>
          </a:xfrm>
        </p:grpSpPr>
        <p:sp>
          <p:nvSpPr>
            <p:cNvPr id="203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694560" y="329724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5491080" y="3612960"/>
              <a:ext cx="160560" cy="477720"/>
              <a:chOff x="5491080" y="3612960"/>
              <a:chExt cx="160560" cy="477720"/>
            </a:xfrm>
          </p:grpSpPr>
          <p:sp>
            <p:nvSpPr>
              <p:cNvPr id="206" name=""/>
              <p:cNvSpPr/>
              <p:nvPr/>
            </p:nvSpPr>
            <p:spPr>
              <a:xfrm flipV="1">
                <a:off x="5581080" y="36129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91080" y="391176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7548480" y="3638160"/>
              <a:ext cx="158760" cy="477720"/>
              <a:chOff x="7548480" y="3638160"/>
              <a:chExt cx="158760" cy="477720"/>
            </a:xfrm>
          </p:grpSpPr>
          <p:sp>
            <p:nvSpPr>
              <p:cNvPr id="209" name=""/>
              <p:cNvSpPr/>
              <p:nvPr/>
            </p:nvSpPr>
            <p:spPr>
              <a:xfrm flipV="1">
                <a:off x="7637760" y="36381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548480" y="393696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5581800" y="361332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14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15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17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9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447920" y="2286000"/>
            <a:ext cx="4876560" cy="2824200"/>
            <a:chOff x="1447920" y="2286000"/>
            <a:chExt cx="4876560" cy="2824200"/>
          </a:xfrm>
        </p:grpSpPr>
        <p:sp>
          <p:nvSpPr>
            <p:cNvPr id="222" name=""/>
            <p:cNvSpPr/>
            <p:nvPr/>
          </p:nvSpPr>
          <p:spPr>
            <a:xfrm>
              <a:off x="144792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70840" y="4091040"/>
            <a:ext cx="95400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694560" y="3297240"/>
            <a:ext cx="0" cy="3160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491080" y="3612960"/>
            <a:ext cx="160560" cy="477720"/>
            <a:chOff x="5491080" y="3612960"/>
            <a:chExt cx="160560" cy="477720"/>
          </a:xfrm>
        </p:grpSpPr>
        <p:sp>
          <p:nvSpPr>
            <p:cNvPr id="229" name=""/>
            <p:cNvSpPr/>
            <p:nvPr/>
          </p:nvSpPr>
          <p:spPr>
            <a:xfrm flipV="1">
              <a:off x="5581080" y="36129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491080" y="3911760"/>
              <a:ext cx="1605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7548480" y="3638160"/>
            <a:ext cx="158760" cy="477720"/>
            <a:chOff x="7548480" y="3638160"/>
            <a:chExt cx="158760" cy="477720"/>
          </a:xfrm>
        </p:grpSpPr>
        <p:sp>
          <p:nvSpPr>
            <p:cNvPr id="232" name=""/>
            <p:cNvSpPr/>
            <p:nvPr/>
          </p:nvSpPr>
          <p:spPr>
            <a:xfrm flipV="1">
              <a:off x="7637760" y="36381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548480" y="3936960"/>
              <a:ext cx="1587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5581800" y="3613320"/>
            <a:ext cx="206352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05520" y="4091040"/>
            <a:ext cx="95076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37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38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9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40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2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4792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96160" y="356868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249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251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371600" y="2286000"/>
            <a:ext cx="4952880" cy="2824200"/>
            <a:chOff x="1371600" y="2286000"/>
            <a:chExt cx="4952880" cy="2824200"/>
          </a:xfrm>
        </p:grpSpPr>
        <p:sp>
          <p:nvSpPr>
            <p:cNvPr id="259" name=""/>
            <p:cNvSpPr/>
            <p:nvPr/>
          </p:nvSpPr>
          <p:spPr>
            <a:xfrm>
              <a:off x="137160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262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265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271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273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7160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905520" y="3568680"/>
            <a:ext cx="152424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283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286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st be “completed” to create a valid 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oices for completing them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IS/2 defines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for satisfy dangling relationships by adding in selected    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ules derived (by hand) from the EXPRESS for each type of dangling re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C Chang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CIS/2 Pub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ole of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ary role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nformance Tes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also serve important practical roles 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ying a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ribing a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dicting what data exchange is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o Easy Solu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Cs always recognised as the single most difficult are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de scope of the LP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exchange between dissimilar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ady-made solution (STEP or IA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 to industrial deploymen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Change from CIS/2 </a:t>
            </a:r>
            <a:r>
              <a:rPr b="1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gorous pre-defined “building-block”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ed any conceivable CC combination to be creat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saged that “industry” would determine which CC combinations would be u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c ev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but how to star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Change from CIS/2 </a:t>
            </a:r>
            <a:r>
              <a:rPr b="1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reviewers found the concept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SE-CCs diffic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ocumented, did not allow fully for the constraining effect of the WHERE ru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quire some BASE-CCs to be used in comb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ducing the effective number of BASE-CCs  (and thus their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incompleteness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)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Change from CIS/2 </a:t>
            </a:r>
            <a:r>
              <a:rPr b="1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has since been revi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number of entities has increas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implying still more BASE-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per/sub-type trees simplified (less 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implying many less </a:t>
            </a:r>
            <a:r>
              <a:rPr b="0" i="1" lang="en-GB" sz="2800" spc="-1" strike="noStrike">
                <a:solidFill>
                  <a:srgbClr val="00ffff"/>
                </a:solidFill>
                <a:latin typeface="Times New Roman"/>
              </a:rPr>
              <a:t>incomplete</a:t>
            </a: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 BASE-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pproach involving less “permutations” required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Key Chang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wer pre-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will be added a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e based-on the generic STEP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CCs defined a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mple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defined by a “short form”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an Excel spreadsheet to specify which entities are in each C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C Revis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Workshop #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 from Day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Complete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CC Now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s to the structure of LPM/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wer ANDOR constru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associative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act of WHERE r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ll some cases where there is a choice over which entity to incl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judgement applied to decide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ac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pragmatic evolutionary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r to underst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centric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STEP toolkit to generate “long form” schema for each CC (and CC combin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 subset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cus on the relevant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ole in conformance tes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ac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ignificant repackaging of th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ffers significant benef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underlying industrial/commercial issues rema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CC (and CC combinations) to impl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for compatible cho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rability of evolutionary convergence (plus innov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w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built round a base ent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ied by a reference number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1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readsheet specifies which entities are included in which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also defined by a “short form”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ies which types, entities, functions and rules are included from the full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Short form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-228960" y="2209320"/>
            <a:ext cx="937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PM5_CC1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ase_ent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typ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entiti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f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ru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Short form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SCHEMA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ffff"/>
                </a:solidFill>
                <a:latin typeface="Courier New"/>
              </a:rPr>
              <a:t>LPM5_CC001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; 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date_and_ti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US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date_and_time);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Base Ent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REFERENC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Enti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calendar_date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coordinated_universal_time_offset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date, local_time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REFERENC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Typ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ahead_or_behind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day_in_month_numbe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hour_in_day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inute_in_hou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onth_in_year_numbe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second_in_minute, year_number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REFERENC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 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Func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leap_yea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valid_calendar_date, valid_time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END_SCHEMA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hema Interfac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ports entity definitions from one schema to an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GB" sz="3200" spc="-1" strike="noStrike">
                <a:solidFill>
                  <a:srgbClr val="00ffff"/>
                </a:solidFill>
                <a:latin typeface="Times New Roman"/>
              </a:rPr>
              <a:t>incomple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)               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Long For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GB" sz="3200" spc="-1" strike="noStrike">
                <a:solidFill>
                  <a:srgbClr val="00ffff"/>
                </a:solidFill>
                <a:latin typeface="Times New Roman"/>
              </a:rPr>
              <a:t>comple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 item explicitly imported into a schema will implicitly reference other items it n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ood modelling practice to explicitly import all required defin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hema Interfac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FROM schema (item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ields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first-cla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ems (can have instances independent of being used by some other ent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ERENCE FROM schema (item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ields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second-cla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em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have instances only if referenced by another instanc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ms may b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ities, types, functions,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efinition of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743200" y="1979640"/>
            <a:ext cx="2208960" cy="3049200"/>
            <a:chOff x="2743200" y="1979640"/>
            <a:chExt cx="2208960" cy="3049200"/>
          </a:xfrm>
        </p:grpSpPr>
        <p:grpSp>
          <p:nvGrpSpPr>
            <p:cNvPr id="323" name=""/>
            <p:cNvGrpSpPr/>
            <p:nvPr/>
          </p:nvGrpSpPr>
          <p:grpSpPr>
            <a:xfrm>
              <a:off x="2743200" y="2971800"/>
              <a:ext cx="2208960" cy="2057040"/>
              <a:chOff x="2743200" y="2971800"/>
              <a:chExt cx="2208960" cy="20570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3809880" y="2971800"/>
                <a:ext cx="990720" cy="1676520"/>
                <a:chOff x="3809880" y="2971800"/>
                <a:chExt cx="990720" cy="16765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4190760" y="2971800"/>
                  <a:ext cx="60984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114800" y="3048120"/>
                  <a:ext cx="60948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038480" y="3124080"/>
                  <a:ext cx="609480" cy="129564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962160" y="3200400"/>
                  <a:ext cx="60984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886200" y="3276720"/>
                  <a:ext cx="60948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809880" y="3352680"/>
                  <a:ext cx="609480" cy="129564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2743200" y="3962520"/>
                <a:ext cx="914400" cy="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4101120" y="4418640"/>
                <a:ext cx="850680" cy="61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265" y="13467"/>
                    </a:moveTo>
                    <a:arcTo wR="10800" hR="10800" stAng="857907" swAng="128452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265" y="13467"/>
                    </a:moveTo>
                    <a:arcTo wR="10800" hR="10800" stAng="857907" swAng="12845257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3737880" y="1979640"/>
              <a:ext cx="112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00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09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743200" y="1979640"/>
            <a:ext cx="4331520" cy="3963600"/>
            <a:chOff x="2743200" y="1979640"/>
            <a:chExt cx="4331520" cy="3963600"/>
          </a:xfrm>
        </p:grpSpPr>
        <p:grpSp>
          <p:nvGrpSpPr>
            <p:cNvPr id="335" name=""/>
            <p:cNvGrpSpPr/>
            <p:nvPr/>
          </p:nvGrpSpPr>
          <p:grpSpPr>
            <a:xfrm>
              <a:off x="5943600" y="2971800"/>
              <a:ext cx="990360" cy="2590920"/>
              <a:chOff x="5943600" y="2971800"/>
              <a:chExt cx="990360" cy="2590920"/>
            </a:xfrm>
          </p:grpSpPr>
          <p:sp>
            <p:nvSpPr>
              <p:cNvPr id="336" name=""/>
              <p:cNvSpPr/>
              <p:nvPr/>
            </p:nvSpPr>
            <p:spPr>
              <a:xfrm>
                <a:off x="6324480" y="2971800"/>
                <a:ext cx="60948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248160" y="3048120"/>
                <a:ext cx="60984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172200" y="3124080"/>
                <a:ext cx="609480" cy="2210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095880" y="3200400"/>
                <a:ext cx="60948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19560" y="3276720"/>
                <a:ext cx="60984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943600" y="3352680"/>
                <a:ext cx="609480" cy="2210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4952880" y="3962520"/>
              <a:ext cx="91440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43200" y="5181480"/>
              <a:ext cx="312408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158520" y="5333040"/>
              <a:ext cx="850680" cy="61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65" y="13467"/>
                  </a:moveTo>
                  <a:arcTo wR="10800" hR="10800" stAng="857907" swAng="12845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65" y="13467"/>
                  </a:moveTo>
                  <a:arcTo wR="10800" hR="10800" stAng="857907" swAng="12845257"/>
                </a:path>
              </a:pathLst>
            </a:custGeom>
            <a:noFill/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47560" y="1979640"/>
              <a:ext cx="112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99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48040" y="1905120"/>
            <a:ext cx="2257920" cy="4495680"/>
            <a:chOff x="1148040" y="1905120"/>
            <a:chExt cx="2257920" cy="4495680"/>
          </a:xfrm>
        </p:grpSpPr>
        <p:sp>
          <p:nvSpPr>
            <p:cNvPr id="347" name=""/>
            <p:cNvSpPr/>
            <p:nvPr/>
          </p:nvSpPr>
          <p:spPr>
            <a:xfrm>
              <a:off x="1981080" y="3276720"/>
              <a:ext cx="609840" cy="3124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148040" y="1905120"/>
              <a:ext cx="225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UCTURAL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CHEM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3723120" y="5603760"/>
            <a:ext cx="1146960" cy="825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Gener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162920" y="4343400"/>
            <a:ext cx="1190520" cy="825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pecif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166880" y="2971800"/>
            <a:ext cx="1774800" cy="11912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Generic Class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001 to CC09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er CCs that are used only as building blocks in the definition of other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ly about 30 will be spec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ic Concept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anagement Class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100 + CC1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CCs which, when combined with other Specific CCs, add-in data management con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pecific Class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102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complete and coherent CCs which, alone or combined with other Specific CCs, provide a practically useful conformance uni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ly some 200 will be spec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Specific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ranslator is specified as being able to translate one, or more than one, Specific CC or Combination of Specific CC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12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123, CC124, CC1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CC111+CC222), CC3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formance of an application’s import and export translators may diff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m borrowed from ISO10303 (STE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ogical subse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pecify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bound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all entities within must be supported in ful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in the CIS/2 docu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of each CC is derived logically from the EXPRESS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number of 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they can be used in combina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which CCs to u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e 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cumentation defines 545 BASE-CC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is “based-on” a different ent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s other “included entitie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efined, each BASE-CCs is either    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Incomple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must be “completed” prior to us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0492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158480" y="2514600"/>
            <a:ext cx="5641920" cy="2319120"/>
            <a:chOff x="1158480" y="2514600"/>
            <a:chExt cx="5641920" cy="2319120"/>
          </a:xfrm>
        </p:grpSpPr>
        <p:cxnSp>
          <p:nvCxnSpPr>
            <p:cNvPr id="79" name=""/>
            <p:cNvCxnSpPr>
              <a:stCxn id="80" idx="2"/>
              <a:endCxn id="81" idx="0"/>
            </p:cNvCxnSpPr>
            <p:nvPr/>
          </p:nvCxnSpPr>
          <p:spPr>
            <a:xfrm rot="5400000">
              <a:off x="2448720" y="3039840"/>
              <a:ext cx="978480" cy="1296360"/>
            </a:xfrm>
            <a:prstGeom prst="bentConnector3">
              <a:avLst>
                <a:gd name="adj1" fmla="val 49981"/>
              </a:avLst>
            </a:prstGeom>
            <a:ln w="28440">
              <a:solidFill>
                <a:srgbClr val="cc0000"/>
              </a:solidFill>
              <a:miter/>
            </a:ln>
          </p:spPr>
        </p:cxnSp>
        <p:grpSp>
          <p:nvGrpSpPr>
            <p:cNvPr id="82" name=""/>
            <p:cNvGrpSpPr/>
            <p:nvPr/>
          </p:nvGrpSpPr>
          <p:grpSpPr>
            <a:xfrm>
              <a:off x="1158480" y="2514600"/>
              <a:ext cx="5641920" cy="2319120"/>
              <a:chOff x="1158480" y="2514600"/>
              <a:chExt cx="5641920" cy="2319120"/>
            </a:xfrm>
          </p:grpSpPr>
          <p:sp>
            <p:nvSpPr>
              <p:cNvPr id="80" name=""/>
              <p:cNvSpPr/>
              <p:nvPr/>
            </p:nvSpPr>
            <p:spPr>
              <a:xfrm>
                <a:off x="2453400" y="2514600"/>
                <a:ext cx="2265480" cy="64260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BASE-CC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58480" y="4191120"/>
                <a:ext cx="2264040" cy="642600"/>
              </a:xfrm>
              <a:prstGeom prst="rect">
                <a:avLst/>
              </a:prstGeo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ff00"/>
                    </a:solidFill>
                    <a:latin typeface="Arial"/>
                  </a:rPr>
                  <a:t>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207320" y="4191120"/>
                <a:ext cx="2593080" cy="6426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Arial"/>
                  </a:rPr>
                  <a:t>In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4" name=""/>
              <p:cNvCxnSpPr>
                <a:stCxn id="80" idx="2"/>
                <a:endCxn id="83" idx="0"/>
              </p:cNvCxnSpPr>
              <p:nvPr/>
            </p:nvCxnSpPr>
            <p:spPr>
              <a:xfrm flipH="1" rot="16200000">
                <a:off x="4055400" y="2728800"/>
                <a:ext cx="978480" cy="1918440"/>
              </a:xfrm>
              <a:prstGeom prst="bentConnector3">
                <a:avLst>
                  <a:gd name="adj1" fmla="val 49981"/>
                </a:avLst>
              </a:prstGeom>
              <a:ln w="28440">
                <a:solidFill>
                  <a:srgbClr val="cc0000"/>
                </a:solidFill>
                <a:miter/>
              </a:ln>
            </p:spPr>
          </p:cxnSp>
        </p:grpSp>
      </p:grpSp>
      <p:grpSp>
        <p:nvGrpSpPr>
          <p:cNvPr id="85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86" name=""/>
            <p:cNvCxnSpPr>
              <a:stCxn id="83" idx="3"/>
              <a:endCxn id="80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87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3T22:44:42Z</dcterms:modified>
  <cp:revision>42</cp:revision>
  <dc:subject/>
  <dc:title>AISC CIS/2  Workshop #I</dc:title>
</cp:coreProperties>
</file>